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229DA-3950-4D21-BD30-DA28B158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D085C-A5D6-4768-ACF9-35FC4A26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8E558-FF31-46EC-BFB2-F1E0C806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AD65F-1F90-454C-BF3B-214374F0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9248-4267-473F-BEBA-9D8ACA56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CD8D-28BA-4D3C-BAB3-AB2C39CD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7498-8332-42EA-9972-48BBBA47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636A-B07B-496A-A9D3-8273A905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0409-CF43-496E-845E-66AE27AD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31A1-A640-4D10-99D7-FF43F698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AAFF-52D5-4AC2-A594-A370076E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6F006-1632-42BB-AFDF-D3F94A51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3DAE-5731-4441-888A-597820B1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4DEB-53CA-41B3-86B5-36213E67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9F77-773D-4B76-93D6-7EAFA9B8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16F3-CAFB-47EB-84D1-A544DB15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5325-6F1F-40D8-B6C5-20CFE5F3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F60B6-9028-48F9-96BF-5DFA09D9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0DE8E-A3DA-4BA1-8D47-D2A49B5F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926C4-D225-4496-B23C-652C8CE2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F05B2-8E92-495B-AE75-476D38C2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F9412-D849-41D8-A45F-42B77B4D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7EC82-1A90-4E56-9164-E680B0AB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627C6-5386-4B11-A49A-9931DAF2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F914-D475-4375-A5C2-272C27656A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E8A3-6822-418C-865B-DD1C9FA411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aking a Double Column Transposition Cipher Help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ptanalysis of a 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3920" y="1936800"/>
            <a:ext cx="83012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eakness of the double column transposition cipher lies in the use of the same pair of keys on several plaintext messages all of the same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f the following 4 messages between Bob and Alice were intercep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16480" y="330984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mai atecb bsbnq xivjb eecqu heikn oxlct sedwn oowq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xda aqmue caeon io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16480" y="410040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nbt tjliu eeyhq xotbi dttqy dwbml bxooa oweal hoaq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bh tqaut iekau wo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6480" y="491976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nat rtwle bocoq xhofb aurqe oxino oxlir defar uhoq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xbn nqttn cgwoo rt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6480" y="5700600"/>
            <a:ext cx="75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wsbe lymtt ernrq xtnei olfqt lebne uxorb okorl ocmq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exru oqwhe oogao aa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DE12A-D83E-4A0E-8FF1-E47A4FF840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all 4 messages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dep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 that is one on top of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it as a large anagrammin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6120" y="4038480"/>
            <a:ext cx="828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tmai atecb bsbnq xivjb eecqu heikn oxlct sedwn oowqq texda aqmue caeon io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nbt tjliu eeyhq xotbi dttqy dwbml bxooa oweal hoaqp nexbh tqaut iekau wo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nat rtwle bocoq xhofb aurqe oxino oxlir defar uhoqe mexbn nqttn cgwoo rt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wsbe lymtt ernrq xtnei olfqt lebne uxorb okorl ocmqf iexru oqwhe oogao aa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86880" y="55767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umns of “x” should all go to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440080" y="3773520"/>
            <a:ext cx="6057720" cy="295200"/>
            <a:chOff x="2440080" y="3773520"/>
            <a:chExt cx="6057720" cy="295200"/>
          </a:xfrm>
        </p:grpSpPr>
        <p:sp>
          <p:nvSpPr>
            <p:cNvPr id="124" name=""/>
            <p:cNvSpPr/>
            <p:nvPr/>
          </p:nvSpPr>
          <p:spPr>
            <a:xfrm>
              <a:off x="244008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5896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820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9780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05E17-9887-48C1-B4D9-0F00837E9F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2500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provides a special anagramming tool for Double Column Transpos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09720" y="2728800"/>
            <a:ext cx="5381640" cy="382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14EA7-2A35-4AA4-81BB-5EDC9F40DE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1T02:09:37Z</dcterms:modified>
  <cp:revision>70</cp:revision>
  <dc:subject/>
  <dc:title>CAP Cryptographic Analysis Program</dc:title>
</cp:coreProperties>
</file>